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3.jpeg" ContentType="image/jpeg"/>
  <Override PartName="/ppt/media/image1.png" ContentType="image/png"/>
  <Override PartName="/ppt/media/image2.jpeg" ContentType="image/jpeg"/>
  <Override PartName="/ppt/media/image31.png" ContentType="image/png"/>
  <Override PartName="/ppt/media/image24.png" ContentType="image/png"/>
  <Override PartName="/ppt/media/image54.png" ContentType="image/png"/>
  <Override PartName="/ppt/media/image14.jpeg" ContentType="image/jpeg"/>
  <Override PartName="/ppt/media/image46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65.png" ContentType="image/png"/>
  <Override PartName="/ppt/media/image21.jpeg" ContentType="image/jpeg"/>
  <Override PartName="/ppt/media/image22.jpeg" ContentType="image/jpeg"/>
  <Override PartName="/ppt/media/image29.png" ContentType="image/png"/>
  <Override PartName="/ppt/media/image63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6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7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5.jpeg" ContentType="image/jpeg"/>
  <Override PartName="/ppt/media/image3.jpeg" ContentType="image/jpeg"/>
  <Override PartName="/ppt/media/image41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ADF-B072-46A0-93C5-5115134D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427-536B-4709-8F94-C2DE64FC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7D2-E5EA-4733-AA4F-EF4F7F12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87B-E366-47CB-A18F-3E9AEC26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8255-28A4-4C95-A674-A6A70098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C27B-0627-4AF1-85DA-121C4C8D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EDA4-1C64-4788-B363-992C3559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115-C4C8-4132-AABF-CA82B68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B2A9-6CC6-467C-A037-4CE975CC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E120-4C5F-4C6E-A15F-ACD3A97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B11D-53BC-4EA8-BA49-BCBF8A0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BDB-9F00-415E-851F-AA0C5B9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2013-A284-431C-A1D5-588EA85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416B-7D10-48F0-A716-083F92E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04B0-2DC0-4606-891F-36E4CA5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0B9F-C173-4B2D-9162-8877D2FA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141C-A30D-453E-A9A7-EBE5E7B1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094E-4A76-40A8-A68E-AF122E04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F766-A0DD-4754-9715-55E1EFB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ACA2-D726-469C-B7E0-B12736DE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A950-94BA-44BC-B83C-1DD6F86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488B-39E7-4864-83AC-C939CD41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C8D-EA33-459C-AD2D-4D0BB9ED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8FEC-DEC6-41CF-9AD5-A8D906A0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0376-96D9-412E-9072-9F6BF17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8C58-1523-4419-8155-4E7FFD3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5037-E663-4701-A15E-9A6DBFC8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68F0-D11C-43AC-9D0E-44BEE05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9E0B-42AE-406B-96BB-640A36CA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6835-FFFE-473D-9B5E-B446E21E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2820-44B4-4AA7-BAA8-D724CEB4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A233-4249-4DDC-BE9D-7D79AABD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B764F-E5EE-41E8-8837-7448FA6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704-E527-4E0C-9340-5D705D5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D573-CA03-4EC2-99EF-00F0F87C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6740F-F408-42B8-A581-21CE729A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C69DC-C099-4A0D-BFF9-33D046B3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4107-1C56-4757-B3E6-B6178E5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634B-B0C3-425F-A7A4-7BF3939A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20BF-1AF2-4220-8D8C-F3B6113B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B425-3352-4014-98AB-67807DC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96AD-7EC8-45A6-A356-F8932C45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D5DF-F828-4D44-BB6A-98A195D0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63AA-A4F2-4A1B-B69B-4ACE923E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AD0-7E76-46A7-A6D8-EA391125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D0C02-0D54-4C00-BE1F-73E638FD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9F85C-3E86-49F7-8150-35CBDC33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8BBB-9C0C-4FA2-B9F2-1DE14A7C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AF037-0278-4677-99AC-05100D24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79F1-1AE6-4DB2-9370-433CBCB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6935-7F93-4EE2-A83C-1C6CDB28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9229-3EC7-4C1F-BD33-B3218C20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AEF4-5696-4B7B-8A27-8045DA4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6484-FF58-41DF-9D57-A031A867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9808-D430-4991-933B-32D808BF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09D-659B-4EA8-8CA0-52313DCF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A1C2-633D-4781-9954-7C11A301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EE8-59B8-4CFD-B7DE-88EEF8D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98C-C5AE-424D-90B4-06F5434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B77-7B20-4BFE-A1F7-B9073688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A24-7EA9-4135-A8DC-8F30D0E16B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50EF-E3EA-4A47-9885-12573C3D58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C82-6437-48E7-ACB3-A9DDDC346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A472-CE92-448E-8294-58926F610B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8C3A-7AEC-484A-8DDE-F314BACFF0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gio.net/kazakhstan/american-fla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en.wikipedia.org/wiki/Image:Berlin_Blockade_Milk.jpg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lag_of_NATO.svg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en.wikipedia.org/wiki/Image:Flag_of_NATO.svg" TargetMode="Externa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d/Flag_of_the_Chinese_Communist_Party.svg" TargetMode="External"/><Relationship Id="rId2" Type="http://schemas.openxmlformats.org/officeDocument/2006/relationships/image" Target="../media/image33.png"/><Relationship Id="rId3" Type="http://schemas.openxmlformats.org/officeDocument/2006/relationships/hyperlink" Target="http://upload.wikimedia.org/wikipedia/commons/6/66/Naval_Jack_of_the_Republic_of_China.svg" TargetMode="External"/><Relationship Id="rId4" Type="http://schemas.openxmlformats.org/officeDocument/2006/relationships/image" Target="../media/image34.png"/><Relationship Id="rId5" Type="http://schemas.openxmlformats.org/officeDocument/2006/relationships/hyperlink" Target="http://en.wikipedia.org/wiki/Image:Mao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en.wikipedia.org/wiki/Image:Chiang_Kai-shek.jpg" TargetMode="External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ulnoll.com/Locations/visiting-Taiwan-flag.gif&amp;imgrefurl=http://www.paulnoll.com/Locations/visiting-Taiwan.html&amp;h=220&amp;w=330&amp;sz=2&amp;tbnid=PsG7B1k3jH4J:&amp;tbnh=76&amp;tbnw=114&amp;start=1&amp;prev=/images%3Fq%3DTaiwan%2BFlag%26hl%3Den%26lr%3D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images.google.com/imgres?imgurl=http://www.paulnoll.com/Locations/visiting-Taiwan-flag.gif&amp;imgrefurl=http://www.paulnoll.com/Locations/visiting-Taiwan.html&amp;h=220&amp;w=330&amp;sz=2&amp;tbnid=PsG7B1k3jH4J:&amp;tbnh=76&amp;tbnw=114&amp;start=1&amp;prev=/images%3Fq%3DTaiwan%2BFlag%26hl%3Den%26lr%3D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itake.se/superpowercoldwarbutton.png&amp;imgrefurl=http://www.itake.se/&amp;h=300&amp;w=300&amp;sz=344&amp;hl=en&amp;start=7&amp;sig2=KVgXFoRqQ9Kmt43zWqznXw&amp;um=1&amp;tbnid=lQeWAn_I3Cyh4M:&amp;tbnh=116&amp;tbnw=116&amp;ei=6QOdR4HnFqD6efy_jM4G&amp;prev=/images%3Fq%3DSuperPower%2BUS%2BUSSR%26svnum%3D10%26um%3D1%26hl%3Den%26rlz%3D1G1GGLQ_ENUS240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mericanrhetoric.com/speeches/winstonchurchillsinewsofpeace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m/imgres?imgurl=http://www.wpclipart.com/signs_symbol/safety_signs/warning_sign.png&amp;imgrefurl=http://www.wpclipart.com/signs_symbol/safety_signs/&amp;h=753&amp;w=1171&amp;sz=26&amp;hl=en&amp;start=11&amp;sig2=zmZe9Lp8KiT03S1VTiL_iQ&amp;um=1&amp;tbnid=ZOmAicQNlOS1iM:&amp;tbnh=96&amp;tbnw=150&amp;ei=kcycR632OKPgeNOR8c0G&amp;prev=/images%3Fq%3Dwarning%2Bsigns%26svnum%3D10%26um%3D1%26hl%3Den%26rlz%3D1G1GGLQ_ENUS240%26sa%3DX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949-4BAF-4A77-BEEC-8BF0F72196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685800" y="4952880"/>
            <a:ext cx="7772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rigins to 1960</a:t>
            </a:r>
            <a:endParaRPr b="1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1066680" y="228600"/>
            <a:ext cx="677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old War: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2" name="Picture 8" descr="americ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590920"/>
            <a:ext cx="2743200" cy="173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20050705205500_che-guevara-soviet-union-flag-posterflag-4001883%5B1%5D"/>
          <p:cNvPicPr/>
          <p:nvPr/>
        </p:nvPicPr>
        <p:blipFill>
          <a:blip r:embed="rId3"/>
          <a:stretch/>
        </p:blipFill>
        <p:spPr>
          <a:xfrm>
            <a:off x="6248520" y="2514600"/>
            <a:ext cx="2666880" cy="1847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nagasaki_bomb"/>
          <p:cNvPicPr/>
          <p:nvPr/>
        </p:nvPicPr>
        <p:blipFill>
          <a:blip r:embed="rId4"/>
          <a:stretch/>
        </p:blipFill>
        <p:spPr>
          <a:xfrm>
            <a:off x="3505320" y="1752480"/>
            <a:ext cx="2284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788C-9720-4DE9-AC00-26897D0D6E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Division of Germany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7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llies decided to divide Germany into 4 zones after th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so, the capital of Berlin was divided into 4 se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E next  2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germanyzone"/>
          <p:cNvPicPr/>
          <p:nvPr/>
        </p:nvPicPr>
        <p:blipFill>
          <a:blip r:embed="rId1"/>
          <a:stretch/>
        </p:blipFill>
        <p:spPr>
          <a:xfrm>
            <a:off x="5029200" y="1752480"/>
            <a:ext cx="3573360" cy="434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DCD-FAE2-4881-9EC2-759EF1F4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81A2-EA5B-4AF7-BF95-13A46B830A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809D-7800-4822-8A23-51FDC9A33F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Problem with Berlin?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rlin was in the Soviet Sec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lin was not happy with a “small piece” of democracy in Ea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did he do?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lift 2"/>
          <p:cNvPicPr/>
          <p:nvPr/>
        </p:nvPicPr>
        <p:blipFill>
          <a:blip r:embed="rId2"/>
          <a:stretch/>
        </p:blipFill>
        <p:spPr>
          <a:xfrm>
            <a:off x="4876920" y="1447920"/>
            <a:ext cx="3933720" cy="4647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A64-0D52-42D4-A081-B85CCA3941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Blockade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9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ne 1948, Stalin attempts to starve West Berliners into sub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rail and street access was block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cossack_road_block_dubasari"/>
          <p:cNvPicPr/>
          <p:nvPr/>
        </p:nvPicPr>
        <p:blipFill>
          <a:blip r:embed="rId1"/>
          <a:stretch/>
        </p:blipFill>
        <p:spPr>
          <a:xfrm>
            <a:off x="2057400" y="3352680"/>
            <a:ext cx="5181480" cy="2963880"/>
          </a:xfrm>
          <a:prstGeom prst="rect">
            <a:avLst/>
          </a:prstGeom>
          <a:ln w="63360">
            <a:solidFill>
              <a:srgbClr val="330066"/>
            </a:solidFill>
            <a:miter/>
          </a:ln>
        </p:spPr>
      </p:pic>
      <p:pic>
        <p:nvPicPr>
          <p:cNvPr id="391" name="Picture 10" descr="soviet_old_soviet_union_fla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066680" cy="708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soviet_old_soviet_union_fl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72400" y="228600"/>
            <a:ext cx="10666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38DB-1F06-4887-912E-6653F04D9E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Airlif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erican and British planes flew food and supplies into Berlin for 327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alin lifted the Blockade by May 194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5" descr="lift 1"/>
          <p:cNvPicPr/>
          <p:nvPr/>
        </p:nvPicPr>
        <p:blipFill>
          <a:blip r:embed="rId1"/>
          <a:stretch/>
        </p:blipFill>
        <p:spPr>
          <a:xfrm>
            <a:off x="4952880" y="1752480"/>
            <a:ext cx="3832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EF35-AA53-4D59-84EF-EE2F6CB0A9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2" descr="Berlin-Airliftchildren"/>
          <p:cNvPicPr/>
          <p:nvPr/>
        </p:nvPicPr>
        <p:blipFill>
          <a:blip r:embed="rId1"/>
          <a:stretch/>
        </p:blipFill>
        <p:spPr>
          <a:xfrm>
            <a:off x="0" y="0"/>
            <a:ext cx="4191120" cy="361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9" name="Picture 3" descr="C-47s unloading at Tempelhof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21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00" name="Picture 4" descr="luftbruecke%20copy"/>
          <p:cNvPicPr/>
          <p:nvPr/>
        </p:nvPicPr>
        <p:blipFill>
          <a:blip r:embed="rId3"/>
          <a:stretch/>
        </p:blipFill>
        <p:spPr>
          <a:xfrm>
            <a:off x="0" y="3683160"/>
            <a:ext cx="5105520" cy="3174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01" name="Picture 5" descr="Loading milk on a West Berlin-bound plan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352680"/>
            <a:ext cx="2781360" cy="350532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00C-1267-4621-BF01-939A98AA07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N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orth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A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tlantic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T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eaty </a:t>
            </a:r>
            <a:br>
              <a:rPr sz="4000"/>
            </a:b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O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ganiz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O was established by a treaty in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organization established a system of collective defense whereby its member states agree to mutual defense in response to an attack by any external pa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nited States, the United Kingdom, Canada, France, Denmark, Iceland, Italy, Norway, Portugal, Belgium, Netherlands, and Luxembourg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reece (1952), West Germany (1955) join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Flag of NA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2120"/>
            <a:ext cx="990720" cy="742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" descr="Flag of NA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3280" y="781200"/>
            <a:ext cx="990720" cy="7426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2188-ABC9-48CB-8C6C-BCFFCB1D36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Warsaw Pac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st Response to N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gned on May 1, 1955 in 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treaty, which bound its signatories to come to the aid of the others, should any one of them be the victim of foreign agg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bania, Bulgaria, Hungary, East Germany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,  Poland, Rumania, the USSR, and the Czechoslovak Re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communism-57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1000" y="30492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communism-57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04920"/>
            <a:ext cx="9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7F8-9BE9-4395-84F9-AC5F5EE29F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FCE-C227-4CA2-9284-846CFE5BA8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2" descr="http://lh4.ggpht.com/_AauCarFOO_Y/TRDg5xE4mRI/AAAAAAAACIk/3i6B1t-CDJw/LO-Sent-Is%20This%20Tomorrow_thumb%5B1%5D.jpg?imgmax=800"/>
          <p:cNvPicPr/>
          <p:nvPr/>
        </p:nvPicPr>
        <p:blipFill>
          <a:blip r:embed="rId1"/>
          <a:stretch/>
        </p:blipFill>
        <p:spPr>
          <a:xfrm>
            <a:off x="1676520" y="380880"/>
            <a:ext cx="6583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B196-3EF9-4141-9AB8-76A04A04C9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7" descr="asia-map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0" y="6156360"/>
            <a:ext cx="5105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old War in As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364-D468-4AD3-A509-D8FDAA1CDE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0066"/>
                </a:solidFill>
                <a:latin typeface="Copperplate Gothic Light"/>
              </a:rPr>
              <a:t>Struggle for China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o Zedong wanted China to become a communist state after WW I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191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 Kai Shek fought to stop the communists but was un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Image:Flag of the Chinese Communist Part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523880" cy="1014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Image:Naval Jack of the Republic of China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80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7" descr="Mao Zedo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3505320"/>
            <a:ext cx="2233440" cy="297180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  <p:pic>
        <p:nvPicPr>
          <p:cNvPr id="429" name="Picture 19" descr="Chiang Kai-she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3581280"/>
            <a:ext cx="21574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EA07-0138-4725-AB2A-1ADC10A6F0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66"/>
                </a:solidFill>
                <a:latin typeface="Copperplate Gothic Light"/>
              </a:rPr>
              <a:t>T</a:t>
            </a: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aiwan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iang Kai-shek, retreated from Mainland China and moved his government from Nanjing to Taipei, Taiwan's largest ci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aiwan made a claim they were separate from Chi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ill a problem area tod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visiting-Taiw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visiting-Taiwan-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taiwan"/>
          <p:cNvPicPr/>
          <p:nvPr/>
        </p:nvPicPr>
        <p:blipFill>
          <a:blip r:embed="rId5"/>
          <a:stretch/>
        </p:blipFill>
        <p:spPr>
          <a:xfrm>
            <a:off x="4800600" y="1600200"/>
            <a:ext cx="383364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6" name="TextBox 8"/>
          <p:cNvSpPr/>
          <p:nvPr/>
        </p:nvSpPr>
        <p:spPr>
          <a:xfrm>
            <a:off x="54000" y="5257800"/>
            <a:ext cx="445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id we do when w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zed China was lo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asures to Maintain American Military 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itary levels remained hig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8 revived Selective Service 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ic Energy Com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Security 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-Dept of defense (army/navy), NS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C-68 Report (1950)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must take initiative (expansion of Kennan’s containment poli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E316-81A5-40A0-94AE-BFE75CB745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D962-C4C7-499A-AF7E-93378CC72A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Picture 2" descr="http://farm5.staticflickr.com/4094/5393776341_5970c1b29b_z.jpg"/>
          <p:cNvPicPr/>
          <p:nvPr/>
        </p:nvPicPr>
        <p:blipFill>
          <a:blip r:embed="rId1"/>
          <a:stretch/>
        </p:blipFill>
        <p:spPr>
          <a:xfrm>
            <a:off x="1523880" y="104760"/>
            <a:ext cx="65534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gman Rh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map-Korean War"/>
          <p:cNvPicPr/>
          <p:nvPr/>
        </p:nvPicPr>
        <p:blipFill>
          <a:blip r:embed="rId1"/>
          <a:stretch/>
        </p:blipFill>
        <p:spPr>
          <a:xfrm>
            <a:off x="380880" y="0"/>
            <a:ext cx="4116600" cy="6629400"/>
          </a:xfrm>
          <a:prstGeom prst="rect">
            <a:avLst/>
          </a:prstGeom>
          <a:ln w="9360">
            <a:solidFill>
              <a:srgbClr val="ffc729"/>
            </a:solidFill>
            <a:miter/>
          </a:ln>
        </p:spPr>
      </p:pic>
      <p:sp>
        <p:nvSpPr>
          <p:cNvPr id="445" name="TextBox 7"/>
          <p:cNvSpPr/>
          <p:nvPr/>
        </p:nvSpPr>
        <p:spPr>
          <a:xfrm>
            <a:off x="4583520" y="2209680"/>
            <a:ext cx="439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50-195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13" descr="Kim"/>
          <p:cNvPicPr/>
          <p:nvPr/>
        </p:nvPicPr>
        <p:blipFill>
          <a:blip r:embed="rId2"/>
          <a:stretch/>
        </p:blipFill>
        <p:spPr>
          <a:xfrm>
            <a:off x="4648320" y="3657600"/>
            <a:ext cx="1782720" cy="2438280"/>
          </a:xfrm>
          <a:prstGeom prst="rect">
            <a:avLst/>
          </a:prstGeom>
          <a:ln w="9360">
            <a:solidFill>
              <a:srgbClr val="330066"/>
            </a:solidFill>
            <a:miter/>
          </a:ln>
        </p:spPr>
      </p:pic>
      <p:pic>
        <p:nvPicPr>
          <p:cNvPr id="447" name="Picture 11" descr="syng280"/>
          <p:cNvPicPr/>
          <p:nvPr/>
        </p:nvPicPr>
        <p:blipFill>
          <a:blip r:embed="rId3"/>
          <a:srcRect l="5400" t="0" r="10813" b="0"/>
          <a:stretch/>
        </p:blipFill>
        <p:spPr>
          <a:xfrm>
            <a:off x="6781680" y="3733920"/>
            <a:ext cx="1914480" cy="1958760"/>
          </a:xfrm>
          <a:prstGeom prst="rect">
            <a:avLst/>
          </a:prstGeom>
          <a:ln w="9360">
            <a:solidFill>
              <a:srgbClr val="330066"/>
            </a:solidFill>
            <a:miter/>
          </a:ln>
        </p:spPr>
      </p:pic>
      <p:sp>
        <p:nvSpPr>
          <p:cNvPr id="448" name="TextBox 10"/>
          <p:cNvSpPr/>
          <p:nvPr/>
        </p:nvSpPr>
        <p:spPr>
          <a:xfrm>
            <a:off x="4724280" y="6211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im Il S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Korean War (1950-195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Visions of stable,unified 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ther side left –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7,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agreed to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SR boycotting Security council so no veto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Douglas McArth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mobilization for war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 thwarted a recession/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s of Communism rein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gave permission to MacArthur to push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 entered war and UN offensive 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wanted to avoid world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-MacArthur Controversy –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cArthur fired for criticizing Truman’s decision not to attack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E8A-3CD2-4111-B309-B9E5C43F95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3E2B-C8A7-422F-AC07-049644A515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old War in America </a:t>
            </a:r>
            <a:r>
              <a:rPr b="0" lang="en-US" sz="3700" spc="-1" strike="noStrike">
                <a:solidFill>
                  <a:srgbClr val="ff0000"/>
                </a:solidFill>
                <a:latin typeface="Copperplate Gothic Light"/>
              </a:rPr>
              <a:t>(1945-1960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re reason to be concerned?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950’s Red Sc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viet domination of 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hina turned Communist – 1 billion peop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0,000 Americans members of Communist pa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4976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2" descr="410Q032Q0HL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3B29-B612-47A5-AB6F-F219F8C7DC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Loyalty Review Board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 up by President Truman in March 194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po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vestigate Federal government employees and dismiss those disloyal to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12 dismi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950 – McCarran Internal Security Act passed –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munist orgs must register and make public their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hiss"/>
          <p:cNvPicPr/>
          <p:nvPr/>
        </p:nvPicPr>
        <p:blipFill>
          <a:blip r:embed="rId2"/>
          <a:stretch/>
        </p:blipFill>
        <p:spPr>
          <a:xfrm>
            <a:off x="4924440" y="1719360"/>
            <a:ext cx="34876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AD8-C900-4CEC-92C9-D23DD6DEC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0066"/>
                </a:solidFill>
                <a:latin typeface="Copperplate Gothic Light"/>
              </a:rPr>
              <a:t>House on Un-American Activities Committee (HUAC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9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gate Communist influence in the movi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lywood Ten – Black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er Hiss Perjury trial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ed under oath and was a communist spy – convicted by R. Ni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h5A"/>
          <p:cNvPicPr/>
          <p:nvPr/>
        </p:nvPicPr>
        <p:blipFill>
          <a:blip r:embed="rId2"/>
          <a:stretch/>
        </p:blipFill>
        <p:spPr>
          <a:xfrm>
            <a:off x="5257800" y="1676520"/>
            <a:ext cx="3478320" cy="441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173E-1E8A-4CEA-93BF-7E207CDEA9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330066"/>
                </a:solidFill>
                <a:uFillTx/>
                <a:latin typeface="Copperplate Gothic Light"/>
              </a:rPr>
              <a:t>Background: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fter WW II, the US and USSR emerged as rival superp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Each nation was strong enough to greatly influence world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s1936a"/>
          <p:cNvPicPr/>
          <p:nvPr/>
        </p:nvPicPr>
        <p:blipFill>
          <a:blip r:embed="rId1"/>
          <a:stretch/>
        </p:blipFill>
        <p:spPr>
          <a:xfrm>
            <a:off x="4495680" y="3809880"/>
            <a:ext cx="195444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1" name="Picture 7" descr="krushchev"/>
          <p:cNvPicPr/>
          <p:nvPr/>
        </p:nvPicPr>
        <p:blipFill>
          <a:blip r:embed="rId2"/>
          <a:stretch/>
        </p:blipFill>
        <p:spPr>
          <a:xfrm>
            <a:off x="6553080" y="3886200"/>
            <a:ext cx="2590920" cy="19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2" name="Picture 9" descr="harry-truman-picture"/>
          <p:cNvPicPr/>
          <p:nvPr/>
        </p:nvPicPr>
        <p:blipFill>
          <a:blip r:embed="rId3"/>
          <a:stretch/>
        </p:blipFill>
        <p:spPr>
          <a:xfrm>
            <a:off x="0" y="3886200"/>
            <a:ext cx="2097000" cy="2152800"/>
          </a:xfrm>
          <a:prstGeom prst="rect">
            <a:avLst/>
          </a:prstGeom>
          <a:ln w="28440">
            <a:solidFill>
              <a:srgbClr val="330066"/>
            </a:solidFill>
            <a:miter/>
          </a:ln>
        </p:spPr>
      </p:pic>
      <p:pic>
        <p:nvPicPr>
          <p:cNvPr id="353" name="Picture 11" descr="USA-E-Supreme-pF"/>
          <p:cNvPicPr/>
          <p:nvPr/>
        </p:nvPicPr>
        <p:blipFill>
          <a:blip r:embed="rId4"/>
          <a:stretch/>
        </p:blipFill>
        <p:spPr>
          <a:xfrm>
            <a:off x="2179800" y="3809880"/>
            <a:ext cx="213660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4" name="Picture 13" descr="superpowercoldwarbutt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DCE0-1188-40CB-BC91-12FCE76CC7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0066"/>
                </a:solidFill>
                <a:latin typeface="Copperplate Gothic Light"/>
              </a:rPr>
              <a:t>The Rosenbergs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erican Communists who were found guilty of conspiracy to commit espionage in relation to passing information on the American nuclear bomb to the Soviet Unio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couple were executed at sundown in the electric chair at Sing Sing Correctional Facility in Ossining, New York, on June 19, 1953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9" descr="rosenbergs"/>
          <p:cNvPicPr/>
          <p:nvPr/>
        </p:nvPicPr>
        <p:blipFill>
          <a:blip r:embed="rId1"/>
          <a:stretch/>
        </p:blipFill>
        <p:spPr>
          <a:xfrm>
            <a:off x="5715000" y="914400"/>
            <a:ext cx="31449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0" name="Picture 10" descr="rosen jail"/>
          <p:cNvPicPr/>
          <p:nvPr/>
        </p:nvPicPr>
        <p:blipFill>
          <a:blip r:embed="rId2"/>
          <a:stretch/>
        </p:blipFill>
        <p:spPr>
          <a:xfrm>
            <a:off x="5029200" y="3809880"/>
            <a:ext cx="3048120" cy="277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B6C-288B-4723-BC6B-632096295A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McCarthyism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11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ator Joe McCarthy became the most famous anti-Communist activ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issue to help win re-election in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ne unsupported accusation afte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uld bully wit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cCarthyism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ctics used to advance your care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9" descr="McCarthy"/>
          <p:cNvPicPr/>
          <p:nvPr/>
        </p:nvPicPr>
        <p:blipFill>
          <a:blip r:embed="rId1"/>
          <a:stretch/>
        </p:blipFill>
        <p:spPr>
          <a:xfrm>
            <a:off x="4756320" y="2021040"/>
            <a:ext cx="382248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A458-25AD-403C-9033-6B23F853B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pperplate Gothic Light"/>
              </a:rPr>
              <a:t>McCarthy’s Downfa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815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first, no one, not even President Eisenhower challenged h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 1954 McCarthy made accusations against the US Ar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to televised Senate investigation; and American people did not like McCarthy’s tactics. 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His popularity dropped greatly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Welch-McCarthy"/>
          <p:cNvPicPr/>
          <p:nvPr/>
        </p:nvPicPr>
        <p:blipFill>
          <a:blip r:embed="rId2"/>
          <a:stretch/>
        </p:blipFill>
        <p:spPr>
          <a:xfrm>
            <a:off x="685800" y="3833640"/>
            <a:ext cx="7467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948 Election – Greatest Up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ADB8-8610-45F7-B4C7-F3E1C77577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Picture 2" descr="File:Harry-truman.jpg"/>
          <p:cNvPicPr/>
          <p:nvPr/>
        </p:nvPicPr>
        <p:blipFill>
          <a:blip r:embed="rId2"/>
          <a:stretch/>
        </p:blipFill>
        <p:spPr>
          <a:xfrm>
            <a:off x="457200" y="1371600"/>
            <a:ext cx="1752480" cy="22384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File:ThomasDewey.png"/>
          <p:cNvPicPr/>
          <p:nvPr/>
        </p:nvPicPr>
        <p:blipFill>
          <a:blip r:embed="rId3"/>
          <a:stretch/>
        </p:blipFill>
        <p:spPr>
          <a:xfrm>
            <a:off x="2362320" y="3962520"/>
            <a:ext cx="1711080" cy="2198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File:StromThurmond.png"/>
          <p:cNvPicPr/>
          <p:nvPr/>
        </p:nvPicPr>
        <p:blipFill>
          <a:blip r:embed="rId4"/>
          <a:stretch/>
        </p:blipFill>
        <p:spPr>
          <a:xfrm>
            <a:off x="457200" y="388620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ElectoralCollege1948.svg"/>
          <p:cNvPicPr/>
          <p:nvPr/>
        </p:nvPicPr>
        <p:blipFill>
          <a:blip r:embed="rId5"/>
          <a:stretch/>
        </p:blipFill>
        <p:spPr>
          <a:xfrm>
            <a:off x="2544840" y="1066680"/>
            <a:ext cx="6599160" cy="383868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0"/>
          <p:cNvSpPr/>
          <p:nvPr/>
        </p:nvSpPr>
        <p:spPr>
          <a:xfrm>
            <a:off x="124200" y="60199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trom Thur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11"/>
          <p:cNvSpPr/>
          <p:nvPr/>
        </p:nvSpPr>
        <p:spPr>
          <a:xfrm>
            <a:off x="557280" y="3276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Harry Tru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12"/>
          <p:cNvSpPr/>
          <p:nvPr/>
        </p:nvSpPr>
        <p:spPr>
          <a:xfrm>
            <a:off x="2405520" y="60199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George Dew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5159160" y="4419720"/>
            <a:ext cx="31780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uthern Democrats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atholics, Jews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nd Surprising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id-western and wes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far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ED8-FC40-4C3E-A8CE-321310C6DE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Picture 2" descr="http://www.theipinionsjournal.com/wp-content/uploads/2012/06/obamadewey.jpg"/>
          <p:cNvPicPr/>
          <p:nvPr/>
        </p:nvPicPr>
        <p:blipFill>
          <a:blip r:embed="rId1"/>
          <a:stretch/>
        </p:blipFill>
        <p:spPr>
          <a:xfrm>
            <a:off x="228600" y="380880"/>
            <a:ext cx="8591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uman’s Domestic Poli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boom due to people’s increase in savings – no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an’s Fair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d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Housing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gregated mil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 discrim in hiring f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line on commu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2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47960" y="1676520"/>
            <a:ext cx="40417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flooded markets led to gre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 un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fo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o Conservatism – 1946 Congression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ft Hartley Act – Ex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ldn’t get national health insurance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ldn’t get more civil rights legis, polling tax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F1BC-9F8C-4DDC-AE41-8F799D473B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E384-37CD-42FA-8CDD-EFC354C150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hange in Lead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rly 1950s saw a change in leaders in both the US and US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US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= Dwight Eisenhower wins the election of 19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P – Richard Nix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cker’s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SS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Nikita Khruschev takes over when Stalin dies in 19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dwight-eisenhower-picture"/>
          <p:cNvPicPr/>
          <p:nvPr/>
        </p:nvPicPr>
        <p:blipFill>
          <a:blip r:embed="rId1"/>
          <a:stretch/>
        </p:blipFill>
        <p:spPr>
          <a:xfrm>
            <a:off x="4876920" y="1676520"/>
            <a:ext cx="226224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1" name="Picture 9" descr="Nikita%20Krushchev"/>
          <p:cNvPicPr/>
          <p:nvPr/>
        </p:nvPicPr>
        <p:blipFill>
          <a:blip r:embed="rId2"/>
          <a:stretch/>
        </p:blipFill>
        <p:spPr>
          <a:xfrm>
            <a:off x="6477120" y="3505320"/>
            <a:ext cx="2419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331-930C-45FD-BA1D-BD56085AF6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Hydrogen Bomb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exploded the 1st H-bomb on November 1, 1952 in South Pacif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t bomb completely destroyed one island and left a crater 175 feet dee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ussians exploded on in August of 195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atoll"/>
          <p:cNvPicPr/>
          <p:nvPr/>
        </p:nvPicPr>
        <p:blipFill>
          <a:blip r:embed="rId1"/>
          <a:stretch/>
        </p:blipFill>
        <p:spPr>
          <a:xfrm>
            <a:off x="5029200" y="1752480"/>
            <a:ext cx="4114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FE55-641F-4B49-B35E-C1C43B5051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Picture 6" descr="H-bom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CA38-E0B7-47FD-AE6A-978A841290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Brinkmanship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ssive Reta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as willingness to push nation 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brink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nuclear war to keep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advocated 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ohn Foster Dulles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ary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whos-dulles"/>
          <p:cNvPicPr/>
          <p:nvPr/>
        </p:nvPicPr>
        <p:blipFill>
          <a:blip r:embed="rId1"/>
          <a:stretch/>
        </p:blipFill>
        <p:spPr>
          <a:xfrm>
            <a:off x="5181480" y="1676520"/>
            <a:ext cx="356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 Conferences – Effects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antic  Charter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ablanca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heran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lta Conference (Feb.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sdam Conference (April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295A-C87B-4C34-99C8-51710EBD54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7AD9-420F-486A-A8B2-764D5CDEF0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Space Rac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8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October 4, 1957 the Soviet Union successfully launched Sputnik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ld's first artificial satellite was about the size of a beach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ed the earth in 98 minu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200px-Sputnik_asm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5622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36576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ace to control space was 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B7E1-6A96-49E3-822E-40D9544333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U-2 Inciden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96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U-2 was designed to be high altitude reconnaissanc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IA used these to spy on USSR and one was shot down on May 1, 196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0" descr="300px-Usaf"/>
          <p:cNvPicPr/>
          <p:nvPr/>
        </p:nvPicPr>
        <p:blipFill>
          <a:blip r:embed="rId1"/>
          <a:stretch/>
        </p:blipFill>
        <p:spPr>
          <a:xfrm>
            <a:off x="1981080" y="3429000"/>
            <a:ext cx="5181840" cy="31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1FD1-91F6-46DE-A73B-0BEAE2FC35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Francis Gary Pow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ruited by CIA to fly spy mi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ot down  in U2 over USSR and convicted of espion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changed for a KGB colonel the US had captu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Francis Gary Powers"/>
          <p:cNvPicPr/>
          <p:nvPr/>
        </p:nvPicPr>
        <p:blipFill>
          <a:blip r:embed="rId1"/>
          <a:stretch/>
        </p:blipFill>
        <p:spPr>
          <a:xfrm>
            <a:off x="5029200" y="1752480"/>
            <a:ext cx="382896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6EC4-F42B-4383-B56F-D2F1CB713C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Conclusion…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Crisis in the Middle East in the 19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z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into the 1960’s, the Cold War was really starting to heat up with no end in s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d War will continue in the 1960s with the world moving closer to an open conflict between the US and USS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9" descr="Fidel%20Castro1"/>
          <p:cNvPicPr/>
          <p:nvPr/>
        </p:nvPicPr>
        <p:blipFill>
          <a:blip r:embed="rId1"/>
          <a:stretch/>
        </p:blipFill>
        <p:spPr>
          <a:xfrm>
            <a:off x="5410080" y="1676520"/>
            <a:ext cx="3124440" cy="2376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jfk"/>
          <p:cNvPicPr/>
          <p:nvPr/>
        </p:nvPicPr>
        <p:blipFill>
          <a:blip r:embed="rId2"/>
          <a:stretch/>
        </p:blipFill>
        <p:spPr>
          <a:xfrm>
            <a:off x="5105520" y="4114800"/>
            <a:ext cx="29718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92F0-0D51-44FF-BE6C-572AB95183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Potsdam Conference</a:t>
            </a:r>
            <a:br>
              <a:rPr sz="4500"/>
            </a:b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July 1945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3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inal wartime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Big Th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ngland = Attl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A = Tru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SR = Stal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talin promised to allow free elections in Eastern Europe – yet never happened (set up satellite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Potsdam 1"/>
          <p:cNvPicPr/>
          <p:nvPr/>
        </p:nvPicPr>
        <p:blipFill>
          <a:blip r:embed="rId1"/>
          <a:stretch/>
        </p:blipFill>
        <p:spPr>
          <a:xfrm>
            <a:off x="4419720" y="1828800"/>
            <a:ext cx="4572000" cy="373680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60EE-271E-4317-8FD7-9A2CF557B7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ontainment Policy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668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Kennan, career Foreign Service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ed the policy of “containment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 would not get rid of communism, but would not allow it to sp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 would “contain” communism where is already existe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tical of the sweeping view Us took regarding containment – only focus efforts on nations of direct strategic importance to us (Europe/Jap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man Doctrin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reece &amp; Tur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shal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Kennan"/>
          <p:cNvPicPr/>
          <p:nvPr/>
        </p:nvPicPr>
        <p:blipFill>
          <a:blip r:embed="rId1"/>
          <a:stretch/>
        </p:blipFill>
        <p:spPr>
          <a:xfrm>
            <a:off x="5486400" y="1752480"/>
            <a:ext cx="327024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359F-1F8A-4146-8788-3E66642BA2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Iron Curtain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ston Churchill coined this te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mous speech on March 5, 1946 at Westminster College, in Fulton, Missou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LICK for text and video of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8" descr="300px-Winston_Churchill"/>
          <p:cNvPicPr/>
          <p:nvPr/>
        </p:nvPicPr>
        <p:blipFill>
          <a:blip r:embed="rId2"/>
          <a:stretch/>
        </p:blipFill>
        <p:spPr>
          <a:xfrm>
            <a:off x="5257800" y="1828800"/>
            <a:ext cx="3525840" cy="426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2B44-0F9D-4F95-A17F-4238C6BD92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FB1D-1485-4479-9331-ACA6E069FB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hurchill’s Warning…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267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urchill felt that behind the Iron Curtain, the USSR was planning to attack and conquer We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2" descr="ILW1059"/>
          <p:cNvPicPr/>
          <p:nvPr/>
        </p:nvPicPr>
        <p:blipFill>
          <a:blip r:embed="rId1"/>
          <a:stretch/>
        </p:blipFill>
        <p:spPr>
          <a:xfrm>
            <a:off x="4724280" y="1752480"/>
            <a:ext cx="389736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75" name="Picture 14" descr="warning_sig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724280"/>
            <a:ext cx="2743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0:49:02Z</dcterms:created>
  <dc:creator>Daniel J. Greenberg</dc:creator>
  <dc:description/>
  <dc:language>en-US</dc:language>
  <cp:lastModifiedBy>Danielle</cp:lastModifiedBy>
  <dcterms:modified xsi:type="dcterms:W3CDTF">2013-04-05T10:50:40Z</dcterms:modified>
  <cp:revision>120</cp:revision>
  <dc:subject/>
  <dc:title>Slide 1</dc:title>
</cp:coreProperties>
</file>